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CE9-5A31-46F3-A106-82199116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25B-9D4A-4E16-8218-5AB08DE2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39A-3B51-40CF-B36E-B54FE0C3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68B-F856-4A32-BF2B-D4A054EB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E35-AB73-42D2-B2BE-7CD380D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D3A-91CC-4BC4-A4A7-9E0729BB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052-399E-4AEC-B6A8-CE1052FA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519-2F8E-496F-BE3C-DE6C134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A04-0800-4FEA-B0DE-0303C82A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AD5-986B-49F2-A059-BFBE6DC3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6E8-412F-4923-BF3A-5264887D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6BE-023C-43F6-8654-36A09084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132000" y="2349360"/>
            <a:ext cx="2835360" cy="23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IUMI 2006 TOKYO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63360">
            <a:solidFill>
              <a:srgbClr val="00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6A63-1328-4AA6-B4FC-69595A728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101080" y="115920"/>
            <a:ext cx="900000" cy="75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Evolution of insured valu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nd insurance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5867280"/>
            <a:ext cx="830592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It seems that clients benefit </a:t>
            </a:r>
            <a:br>
              <a:rPr sz="2800"/>
            </a:b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from the lack of transparenc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08480" y="2813040"/>
            <a:ext cx="2449440" cy="1967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08480" y="4289400"/>
            <a:ext cx="244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08480" y="3797280"/>
            <a:ext cx="244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08480" y="3305160"/>
            <a:ext cx="244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08480" y="2813040"/>
            <a:ext cx="244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08480" y="2813040"/>
            <a:ext cx="2449440" cy="1967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08480" y="2813040"/>
            <a:ext cx="1440" cy="196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5640" y="47800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5640" y="42894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65640" y="3797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5640" y="330516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65640" y="28130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08480" y="4780080"/>
            <a:ext cx="244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08480" y="4779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27360" y="477972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857760" y="4779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075200" y="4779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294080" y="477972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524480" y="4779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41920" y="4779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971960" y="477972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91200" y="4779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408640" y="4779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638680" y="477972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57920" y="4779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517920" y="3720960"/>
            <a:ext cx="230040" cy="7632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747960" y="3622320"/>
            <a:ext cx="217440" cy="9828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5400" y="3622680"/>
            <a:ext cx="219240" cy="1116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184640" y="3589200"/>
            <a:ext cx="230040" cy="446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414680" y="3479760"/>
            <a:ext cx="217800" cy="1094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632480" y="3448080"/>
            <a:ext cx="218880" cy="3168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51360" y="3316320"/>
            <a:ext cx="230400" cy="13176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081760" y="3184560"/>
            <a:ext cx="217440" cy="13176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299200" y="3021120"/>
            <a:ext cx="218880" cy="16344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518080" y="2910960"/>
            <a:ext cx="230400" cy="10980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17920" y="3797280"/>
            <a:ext cx="230040" cy="1303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47960" y="3927600"/>
            <a:ext cx="217440" cy="109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65400" y="4037040"/>
            <a:ext cx="219240" cy="871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84640" y="4124160"/>
            <a:ext cx="230040" cy="1317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414680" y="4245120"/>
            <a:ext cx="217800" cy="108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32480" y="4245120"/>
            <a:ext cx="218880" cy="219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851360" y="4048200"/>
            <a:ext cx="230400" cy="218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081760" y="3720600"/>
            <a:ext cx="217440" cy="327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299200" y="3546000"/>
            <a:ext cx="218880" cy="1746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18080" y="3546360"/>
            <a:ext cx="230400" cy="1526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13920" y="46926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13920" y="420228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37600" y="371016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37600" y="321804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2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37600" y="272556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335700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358704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80484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02372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25376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447156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69044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492084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513828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535716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5587560" y="495324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443560"/>
            <a:ext cx="306360" cy="144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65000" y="5292720"/>
            <a:ext cx="239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tal world trade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5749920"/>
            <a:ext cx="30636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24040" y="5622840"/>
            <a:ext cx="218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lobal Cargo 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51160" y="1553040"/>
            <a:ext cx="443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ld sea-borne trade volume and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Cargo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3520" y="2186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x of evolution, 1995 =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2400480"/>
            <a:ext cx="59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Indicators for world trade volume from ISL Br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Wishful thinking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r a feasible appro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cargo insurers receive all this information they will realise that there are many more shipments than anticipated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ue to off-shoring, out-sourcing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laration policies will generate much more premium volume unless the technical rates per destination are reduced correspondi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the clients may anticipate higher prices they probably will refuse to give all thi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the competition “allow” this innov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What will be the consequenc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f the revealed accum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assume the underwriter knows that he has € 50m in cargo on board a vessel of which he is also the Hull Insurer for € 5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underwriter in a position to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his event cover in his reinsurance program is below this amount he can increase his reinsurance protection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but he can’t withdraw from his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mulation is revealed but will r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Do cargo insurers really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ave a problem with the status qu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y have an adequate RI event co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 higher their retention is the more their technical result can be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Solvency II will “force” European insurers to reveal unknown accumulations. Otherwise their solvability will be affected and they need more 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olvency II will b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catalyst for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d solvability margin =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centages of premiums and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culated due to the real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ries adore Property insurers, because they try to achieve full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the benchmark for Marine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ries will “punish” insufficient transparency =&gt; more equity =&gt; more profi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&gt; more technical margin... Competitive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15000" y="5943240"/>
            <a:ext cx="2895480" cy="6094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22600" y="2222640"/>
            <a:ext cx="5671800" cy="3867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22600" y="5540400"/>
            <a:ext cx="567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22600" y="4978440"/>
            <a:ext cx="567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22600" y="4430880"/>
            <a:ext cx="567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22600" y="3881520"/>
            <a:ext cx="567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22600" y="3332160"/>
            <a:ext cx="567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22600" y="2771640"/>
            <a:ext cx="567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22600" y="2222640"/>
            <a:ext cx="567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22600" y="2222640"/>
            <a:ext cx="5671800" cy="386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44640" y="4076640"/>
            <a:ext cx="169920" cy="2013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7760" y="3624120"/>
            <a:ext cx="158760" cy="2465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78280" y="2759040"/>
            <a:ext cx="171360" cy="333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51400" y="2514600"/>
            <a:ext cx="158760" cy="3575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3360" y="3040200"/>
            <a:ext cx="169560" cy="3049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6480" y="3673440"/>
            <a:ext cx="158400" cy="24163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46640" y="3405240"/>
            <a:ext cx="171360" cy="2684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19760" y="4137120"/>
            <a:ext cx="158760" cy="1952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81720" y="3808440"/>
            <a:ext cx="169920" cy="22813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54840" y="4162320"/>
            <a:ext cx="158760" cy="1927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14560" y="4186080"/>
            <a:ext cx="158760" cy="1903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76520" y="3892680"/>
            <a:ext cx="158760" cy="219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49640" y="3772080"/>
            <a:ext cx="158760" cy="2317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10160" y="3637080"/>
            <a:ext cx="158400" cy="2452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2920" y="3673440"/>
            <a:ext cx="158760" cy="2416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44880" y="4124160"/>
            <a:ext cx="158760" cy="1965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18000" y="4282920"/>
            <a:ext cx="158760" cy="1806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8520" y="4430880"/>
            <a:ext cx="158760" cy="165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1640" y="4344840"/>
            <a:ext cx="158760" cy="174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13600" y="4344840"/>
            <a:ext cx="158760" cy="174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22600" y="2222640"/>
            <a:ext cx="1440" cy="386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73280" y="60897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73280" y="55404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3280" y="49784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3280" y="44308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3280" y="38815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3280" y="33321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3280" y="277164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3280" y="22226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22600" y="6089760"/>
            <a:ext cx="567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22600" y="60897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295360" y="60897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855880" y="60897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430440" y="60897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0960" y="60897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564080" y="60897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126040" y="60897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699160" y="60897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59680" y="60897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832440" y="60897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394400" y="60897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68360" y="5991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82680" y="54421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82680" y="48816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82680" y="43322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82680" y="37828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8800" y="323532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8800" y="26733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2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8800" y="21240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4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3276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0588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6784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4096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112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7424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3620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0932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6984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2960" y="6222960"/>
            <a:ext cx="36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88080" y="3990960"/>
            <a:ext cx="98640" cy="96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762680" y="390528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ine H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88080" y="4246560"/>
            <a:ext cx="98640" cy="9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61240" y="418608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go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No margin for a total los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f one or two container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4720" y="3290760"/>
            <a:ext cx="1089000" cy="73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844640"/>
            <a:ext cx="16002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ing a 30% expense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371600"/>
            <a:ext cx="7556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ss Ultimate Loss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4127400"/>
            <a:ext cx="533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632448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writing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transparency will not solve the accumu-lation problem regarding container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more transparency is an important means to maintain the competitiveness under the new solvabi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partial trade-off between transparency and equity or technical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tages: Profit, stability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dvantages: Losses, volatility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81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al problem for cargo insurers is the lack of sustained prof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ason is mainly the empirical underwri-ting approach: targeting (attritional) loss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ution: adequate large-loss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ither on the whole portfoli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same percentage on gross prem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individual large-loss margins per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implement, pragmatic, and prom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t" descr=""/>
          <p:cNvPicPr/>
          <p:nvPr/>
        </p:nvPicPr>
        <p:blipFill>
          <a:blip r:embed="rId1"/>
          <a:stretch/>
        </p:blipFill>
        <p:spPr>
          <a:xfrm>
            <a:off x="1790640" y="1419120"/>
            <a:ext cx="5562720" cy="41515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garding the accumulation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blem one innovation will help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2285640"/>
            <a:ext cx="871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loating container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29000" y="37339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752480"/>
            <a:ext cx="82296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ctr">
              <a:tabLst>
                <a:tab algn="l" pos="0"/>
                <a:tab algn="l" pos="1052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tainer Vess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 algn="ctr">
              <a:tabLst>
                <a:tab algn="l" pos="0"/>
                <a:tab algn="l" pos="1052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Risk Aggre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 algn="ctr">
              <a:tabLst>
                <a:tab algn="l" pos="0"/>
                <a:tab algn="l" pos="1052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 algn="ctr">
              <a:tabLst>
                <a:tab algn="l" pos="0"/>
                <a:tab algn="l" pos="1052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argo Underwriter‘s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 algn="ctr">
              <a:tabLst>
                <a:tab algn="l" pos="0"/>
                <a:tab algn="l" pos="1052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 algn="ctr">
              <a:tabLst>
                <a:tab algn="l" pos="0"/>
                <a:tab algn="l" pos="1052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atthias Kirch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 algn="ctr">
              <a:tabLst>
                <a:tab algn="l" pos="0"/>
                <a:tab algn="l" pos="1052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nager Marine &amp; A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 algn="ctr">
              <a:tabLst>
                <a:tab algn="l" pos="0"/>
                <a:tab algn="l" pos="1052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XA Corporate Solutions Niederlassung Deutsch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281480" y="5899320"/>
          <a:ext cx="56988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5899320"/>
                    <a:ext cx="5698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62864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er vessels and accumulation: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From unknown accumulations to transparenc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ntainer vessels and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ccumulation: scenario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tal loss of a 10,000 TEU container ves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 of the vessel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20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2,5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value per 20 ft containe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value of cargo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20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ers (Hull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20,000,000</a:t>
            </a:r>
            <a:br>
              <a:rPr sz="2400"/>
            </a:br>
            <a:br>
              <a:rPr sz="1000"/>
            </a:b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=&gt;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laim = EUR 422,500,000</a:t>
            </a:r>
            <a:br>
              <a:rPr sz="2400"/>
            </a:b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Average value EUR 50,000 / EUR 100,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=&gt; Claim = EUR 722,500,000 / EUR 1,222,5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ntainer vessels and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ccumulation: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ision of two 10,000 TEU container vessels and total lo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 of the vessel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40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5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value per 20 ft container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2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value of cargo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40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ers (Hull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 40,000,000 </a:t>
            </a:r>
            <a:br>
              <a:rPr sz="2400"/>
            </a:br>
            <a:br>
              <a:rPr sz="1000"/>
            </a:b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=&gt; Claim = EUR 845,000,000</a:t>
            </a:r>
            <a:br>
              <a:rPr sz="2400"/>
            </a:b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 value EUR 50,000 / EUR 100,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=&gt; Claim = EUR 1,445,000,000 / EUR 2,245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ntainer vessels and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ccumulation: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,000 TEU is not the end: 20,000 TEU?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MV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ma Maers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,000 TEU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13,000 T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emma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276360" cy="2363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440" y="4770360"/>
            <a:ext cx="871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&gt; Accumulation scenario: + € 1-2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collision/total loss of two vessels really the worst c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Why unknown accumulations?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erspective of a cargo underwri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Policies with a rate on annual turnover: no declaration of shipments in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nderwriter limits the exposure per vessel for each policy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but he can’t limit and monitor the aggregation of all of his clients on one vessel, because he doesn’t k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of his clients have cargo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o what extent (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an unknown accumulation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e revea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rnover Policies were designed to save workload for clients, brokers, and insur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were implemented at a time when EDP was not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today’s EDP systems it should be possible “to go back to the roots” in principle, i.e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laration in advance of each and every single shipment of all cli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820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Wishful thinking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r a feasible appro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ents use EDP systems for the administration of the purchase and distribution of thei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rwarders use EDP systems for the administration of their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members of the supply chain use E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PS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it’s possible to match all such data single declarations of shipments should be fea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5:50:51Z</dcterms:created>
  <dc:creator>Matthias Kirchner</dc:creator>
  <dc:description/>
  <dc:language>en-US</dc:language>
  <cp:lastModifiedBy> Astrid</cp:lastModifiedBy>
  <cp:lastPrinted>2006-09-13T07:55:21Z</cp:lastPrinted>
  <dcterms:modified xsi:type="dcterms:W3CDTF">2006-09-13T12:12:46Z</dcterms:modified>
  <cp:revision>286</cp:revision>
  <dc:subject/>
  <dc:title>Container Vessels and Risk Aggregation</dc:title>
</cp:coreProperties>
</file>